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831388" cy="73152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39560" y="4320720"/>
            <a:ext cx="5978880" cy="463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058760" y="682560"/>
            <a:ext cx="468648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12600" y="-8280"/>
            <a:ext cx="6858000" cy="2271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457200" indent="0" algn="r"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1130400"/>
                <a:tab algn="l" pos="1469880"/>
                <a:tab algn="l" pos="1808280"/>
                <a:tab algn="l" pos="220356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58760" y="682560"/>
            <a:ext cx="4686480" cy="3487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39560" y="4320720"/>
            <a:ext cx="5978880" cy="463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080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36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20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080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3880" y="422280"/>
            <a:ext cx="84013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29800" cy="121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3204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Font typeface="Tahoma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06992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6553080"/>
            <a:ext cx="210024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home.asp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home.asp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9296280" cy="1067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and .NET 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5219640" y="2666880"/>
            <a:ext cx="43815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Jay Schmel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rt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arity Consulting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requisites for presentatio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assume you know: 1) XML; 2) VS.N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evel: 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514600"/>
            <a:ext cx="5410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ocument vs RPC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s how the body of the SOAP body is format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P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signed for calls to remote objects or job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signed to pass documents to remote machines and receive documents bac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 combi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PC/Encod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ocument/Encod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ocument/Liter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Enables...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-platform integ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-language integ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ified de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Just HTTP and XM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Overview (brief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AP and Web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ing SOAP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Web Service Uses of SO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&lt;&gt; Web Servic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is one of the many standards Web Services are built up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is fully self-suffic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don’t NEED to use any other technologies to leverage SOA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eb Services Standard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ML:  Data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  Transport mech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:  Wire protoc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SDL:  Defines the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DDI:  Discovery mech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How does it work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71680" y="2362320"/>
          <a:ext cx="906768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2362320"/>
                    <a:ext cx="90676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1673280"/>
            <a:ext cx="830412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he .NET Framework exposes Web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Overview (brief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and Web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nsuming SOAP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Web Service Uses of SO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3 General Approach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-generated Proxy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de/binary generation tool builds proxy classes based on service definition (WSDL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API T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ibraries that build/simplify the construction of SOAP messag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imarily required for RP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ML/HTTP T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XML library to construct SOAP messages and HTTP library to send/receive da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roxy Class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 SOAP Toolk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sumes WSD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erates dynamic COM interfa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NET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sumes WSD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erates classes (cod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29528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ty Consulting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ww.claritycon.c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icago based technology consulting fir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uild enterprise class applications using Microsoft’s development tools and serv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ve worked with Visual Studio .NET for 3+ year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tn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re importantly…active project leader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tact me at jschmelz@claritycon.co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Clarity Consult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19840" y="6477120"/>
            <a:ext cx="3009960" cy="838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ut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API Too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 SOAP Toolkit (Low-level AP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ually construct SOAP RPC requ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NET Framework SOAPSeriali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ually construct SOAP RPC requ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XML/HTTP Too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XML COM D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struct XML Docu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nd them over HTTP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NET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stem.XML:  Construct XML Docu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stem.Net:  Send and receive XML over HTTP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ing SOAP clients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NET Proxy Clas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NET Xml/HTTP too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Overview (brief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and Web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ing SOAP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n-Web Service Uses of SO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.NET Remot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PC Mechanism built into .NET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s multiple transport protoc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cke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s multiple serialization form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ina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synchronous Applica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d SOAP messages over a variety of protoc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MTP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SMQ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NET Remo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ynchronous SO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me: jschmelz@claritycon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info on Clar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ww.claritycon.c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ww.ClarityKnows.n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arity Consult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62640" y="6505560"/>
            <a:ext cx="34671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AP Overview (brief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and Web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ing SOAP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Web Service Uses of SO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SOAP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is a lightweight protocol for exchange of information in a decentralized, distributed environment. 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word:  SI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SOAP Isn’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is not a programm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ys nothing about how services are buil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is not tied to 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urrent spec only addresses HTT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does not cov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uthentic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ansaction coordin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synchronous processing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Message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00200"/>
            <a:ext cx="4343400" cy="4724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057400"/>
            <a:ext cx="3886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TTP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819520"/>
            <a:ext cx="3886200" cy="32004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Envel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200400"/>
            <a:ext cx="358164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Hea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657600"/>
            <a:ext cx="30481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572000"/>
            <a:ext cx="358164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029200"/>
            <a:ext cx="30481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ssage 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6765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600200"/>
            <a:ext cx="3407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60280" y="1600200"/>
            <a:ext cx="31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Complete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2096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8954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2767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38098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46483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51814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90880" y="2133720"/>
            <a:ext cx="41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tandard HTTP and SOAP HTTP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1400" y="281952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Envelope&gt; encloses payl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03480" y="3200400"/>
            <a:ext cx="293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Header&gt; encloses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52000" y="3733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dividual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3920" y="4572000"/>
            <a:ext cx="33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Body&gt; contains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66040" y="5105520"/>
            <a:ext cx="305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XML Encoded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Exampl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StockQuote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tStockQuote(ByVal Symbol as String) As Dou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224"/>
              </a:spcBef>
              <a:spcAft>
                <a:spcPts val="337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est messag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562040" y="3200400"/>
            <a:ext cx="792504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Envelop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mlns:SOAPENV=“SOAPEnvelope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AP-ENV:encodingStyle=“SOAPEncoding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m:GetStockQuote xmlns:m=“Some-URI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ymbol&gt;MSFT&lt;/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m:GetStockQuo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Envelo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Exampl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mes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209680"/>
            <a:ext cx="807732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209680"/>
            <a:ext cx="807732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Envelope xmlns:SOAPENV=“SOAPEnvelope-URI”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AP-ENV:encodingStyle=“SOAPEncoding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m:GetStockQuoteResponse xmlns:m=“Some-URI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rice&gt;75.10&lt;/pri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m:GetStockQuoteRespons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Envelope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Literal vs. Encoded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s how the parameters of the SOAP request are format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AP requests are encoded according to Section 5 of the SOAP specific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as implemented because XML Schemas were moving slow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st common approach with existing SOAP toolkits*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AP requests contain XML documen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ructure of the document can be defined with a schema – typically contained in the WSDL fi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8:58:05Z</dcterms:created>
  <dc:creator>Jay Schmelzer</dc:creator>
  <dc:description/>
  <dc:language>en-US</dc:language>
  <cp:lastModifiedBy>Jay Schmelzer</cp:lastModifiedBy>
  <cp:lastPrinted>1998-07-04T09:05:35Z</cp:lastPrinted>
  <dcterms:modified xsi:type="dcterms:W3CDTF">2002-05-23T17:30:28Z</dcterms:modified>
  <cp:revision>184</cp:revision>
  <dc:subject/>
  <dc:title>SOAP and .NET</dc:title>
</cp:coreProperties>
</file>